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973-E762-4603-90D5-265206E4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86F-4356-4655-B873-58074C20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35A70-DAF1-4BF0-8DA0-77CCA7E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FD591-8138-45E1-9491-44E8BEA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AC533-C055-415F-8E62-489FEE5D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E3BAA-6108-4198-91B5-7EE75096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55444-7FC3-488E-A5DB-BCF442CA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F397-6AFE-4342-ACFF-B81E565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4CBDF-B873-4898-A984-318012D2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7B417-F0E2-4786-9B59-C87C4FC4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875B2-6256-4CE7-8EB0-704A85B6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FF81E-3709-4537-8569-43D34F56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502-BD64-42D4-8245-C991CF70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27D4C-15FB-4436-A945-ADBEBC0C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800E4-76BD-48A7-9354-913060E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EB0A7-4FE5-4B44-98A1-1ECCD254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E2093-396E-4B9A-B629-CAF6E9D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66362-5259-43A3-9B5E-8F1A24EB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1A86B-E29F-4222-8668-7783840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B35D5-13D1-4D5F-BF5C-3897827C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E1066-351D-48BB-AC08-337FD32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C08F9-5A03-45B4-88F4-3A79EE62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12B2C-95B0-46B2-BBB0-A03E1BE0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97E-9918-4941-9172-C2C41C77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4660-F23A-48A5-959B-03FA8485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FEEE62-71B7-40BE-8FA1-07875F2B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A744B-1436-4D18-AAEF-99ACDE7A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1593CF-2A56-4D01-BD6E-FE7CE59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E1B176-6FA8-4F64-B206-E6D0790A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CE70AE-FBE3-46B5-9FC3-1756492B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3C988C-2EDB-46BA-888E-C10DCA12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9D9235-A51A-482A-A137-E5A4668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B684E6-926A-4E33-BD16-C2EA7FB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800AEB-8691-4193-A306-24BAA35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EA48-53E8-4D79-8D03-6D31D13B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24A958-931D-4BA3-809E-87B7A7C7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DBDE9D-327C-4B15-9783-96EEB11A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6504B7-1507-4DD7-BFCD-0C838C1F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ED707-D057-4D5E-9BCA-CC1C500E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D096A-A381-4717-A8D3-94F8BCF8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26C44-7DD3-41DB-9CFE-7A5B0832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BDD0F-3429-4577-914B-DE72159D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1304E-F0BB-4F8B-A716-49BF4C82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FC984-3FA0-43A8-8B31-6BC9EFD0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D5094-A585-4E49-A3E2-4EE51C07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87E4-8975-4388-8EAB-C90CF94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1CCEC-C279-404E-89E8-362B7E78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22442-AE59-4A78-A558-10982CE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870EE-CD8A-4D60-ADC0-27FD1E6F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B9A8E-893A-4910-9CD1-CE52CFAC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7DCB6-E42D-4BA1-9C46-2D12DE8F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97009-BBAB-453B-BF2D-5B1D05C1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9B190-6C16-40F7-B8A1-8323D0A3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BBB25-4EA1-4822-809A-F7EE92A9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493FA-90CF-4BB7-B6A2-89C2D68A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EFCE1-B2C2-4355-AEF6-C99E9D6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A7C-1959-4C6C-A45A-0257BA0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BD3B5-8380-459C-8244-8740A7EF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7DB7E-F2B2-4243-900E-199191D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0581F-27F6-46DA-90D1-60C4C5B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F9912-2F2F-46D4-9102-31C9ABF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3D660-FB7C-4815-A52C-4BC80CA2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ADCF7-D3F8-4C70-B24D-D819816A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D5C3A-5DB0-4FDF-8044-5A32BD08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3EBE5-6C12-4146-9311-4B45558E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E6C74-466E-4312-93E1-D86EF2A1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2921B-80AB-4B09-86E2-1E7B9D2D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9541-9BFC-449E-8ED5-FE24E839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10D45-491F-488B-87CA-A84BBFBC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C444C-C425-41EC-8607-F75F9EBA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F4B87-369D-447C-8674-D28AF848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661F0-7D6D-44BD-93E3-40F7613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9232D-38CA-4E5B-B5ED-64122A20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E1B54-A4F1-4BF0-BAFF-5F608F7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F4C5E-C429-4995-B25A-13D19427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232F0-614E-48A3-91CD-AC92BD4E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336EF-5FA0-45B8-A726-7E57C08B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9CB7-D644-480D-AD8B-2DE17774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6DBE-31E4-4F66-B2E9-9D35E4B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D092-3F36-47E1-A258-98C3D580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927-4CF0-429E-A1F8-52AF8FBF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55BE-AF12-4A5E-BB77-06E1BDB0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A92-98D0-404F-B872-4FCF72B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60A-8EC4-4479-83BD-D659928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DCB3-8E88-42B2-A9C7-3D4221AE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694F-9FBB-4464-A447-DEA3F895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6C56-6B26-4E2F-A5A6-B07FFB02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074C-374F-47A4-97E9-9DABE68A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367A-8683-4B65-9588-708C0D4F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C6D1-303C-4288-B082-78CFDFDD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B2BB-9F9C-4570-AD46-A25DA19F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D8D-099C-4667-83C1-8006A653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2E45-98AD-40A3-B68A-A2BFDC64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6149-3253-42AB-8EA6-7972862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7E64-A624-4BFB-85B8-5EE35F7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CA07-B603-40FA-80BD-BB92433B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07A9-9424-488C-9AB6-75B68A4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446E-F3B8-4093-9BAC-A72CE7AE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E2AB-7466-45DD-A131-1F0E6233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7C388-3B70-448C-AB22-09354873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10378-93E2-403D-955E-6BD5AE20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C705-9D4B-49E1-B85B-969DB9D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3C3-0453-4723-8947-9633354C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C4E0-BDC3-4EA7-85AC-96F8F5D9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474B-EA2C-429C-AF60-9DACE6CD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70352-92DF-46C1-AAF0-5DA570CF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FDD2-6FA0-4E54-94C9-94BCD3A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2102-D73E-49B9-9CA0-EC07B25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4E7F-8768-40CF-9240-97639B6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3B87-80D8-4A6A-A743-10D2DB7F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0D94C-2EB6-4798-9EEC-13500E63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621C-520C-4A89-AE13-9CABF3A1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1548F-3808-40D8-A083-928AB89D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59F-A3CC-4FAF-B0D2-A0C912A0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9FA91-4F31-44C2-BE1C-3DD7BF5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E39D4-5FF3-4C68-827B-7F685B8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7F8F6-F313-4701-886B-66731A2A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CA2C1-A88B-4AED-95D7-07208B11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8614F-2CD1-47AE-93FC-6A5291A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E1A72-98F4-4D63-A529-5B76CA7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BE237-89F1-46FC-91FD-89BE1AC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AB0E5-B06C-4FC8-A37E-30953D8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75FA2-2476-48DE-9041-258ACB22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A5EE8-F154-4457-A560-4721546A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081-9161-4A52-A77C-C779E1E3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295F0-2E42-4219-A2DC-F4215ED5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17BD-05F9-4E88-A983-A577DE6A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9DE7-EABC-4A9D-9538-89B5CF04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50DBB-A85D-4FA9-8E7A-32AB2626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DAD8-5E3C-4BCB-85FB-1D8FD6DA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AEF1C-F8F2-4A60-AA13-3000EF8F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20BA-301D-4A6C-9CB6-62CC1EBC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445C-8972-4209-9D92-82183996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1C82-A621-4336-A4D5-FA674098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ACBE-CFE1-43B6-9097-200F514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021-DC2C-4226-8D23-0A5A20A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BCE82-80EC-4CF5-9C65-D55A7510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0A57-7A6B-42B8-88A5-73364184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566A-1397-4C9E-9F0E-5FE41238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C3DB-9A1E-4092-929D-8245BCD3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52D53-5794-4346-BF14-3717FB0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6C19-6A11-49A3-A426-51AD485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F7B1-6B3E-4E1D-9227-C40748F8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963AA-123D-44D1-8CB8-5B2068F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4776-3936-4F35-A65B-CB33E65B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D81C1-5C8C-43A7-90A7-8C8E037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1B6-9E71-4FEE-835B-89A9D2C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D31A-F88F-4158-8BA1-7661C45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E0B67-1D65-4B26-B06A-5CD51F3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D145F-11EE-4357-832C-782DAE82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8559-B698-407B-B187-6857830E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BD70-0742-45AB-B972-4A43CF4B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7C69-E96F-4453-8D95-CB0129DB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74CD-5410-4A5D-A27F-CC5ABAAD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43908-C3E2-497E-9571-223EB18A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E31E8-E813-4D65-B0E5-7074E520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6C0B-4417-4DF1-BEC4-76FA4C7A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382-6CEB-4047-90B4-06B227D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5913-1CC7-43DC-A828-14B3F5F2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82CBC-BBDB-42EC-A663-564A8F50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3BA3E-877D-4D5C-BCA3-B7180FF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E9C7-74C1-40A2-A86D-9D16F50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F8F01-29A3-411A-B9B0-C97996C7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DC14-1639-4ADA-8254-2F4257A5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FF29F-8F21-44BF-B10A-A944A8DA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D2D84-AC55-4924-A856-301129C4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2A36C-9CD0-4BD3-A2A7-F44F1ABB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8CB31-CC11-44B6-AA07-E4200309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6BCA-94E1-41AD-961C-FDA0E65A8E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1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8EB7-3FF3-4E39-A5AC-2D94C6E246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F837-743E-4528-A196-6EDEB8D3B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5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AB4A-E0FA-439E-8EFF-5B190426F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6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86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87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7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1E7C-A6E3-47A3-BB9C-12EB8B2DABA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3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3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5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6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07CA-C598-46F8-AB9F-9BEA4251411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052-C926-4A82-B057-EC7373F9856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3E13-CB3D-4997-ADE1-9016461A9E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5B95-9542-41F3-8960-715078B4CE2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821-CD9C-4B4E-B378-1576AF3DAC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DBE0-6A08-4E4F-A308-DA76D14B63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BFF1-4DA7-489F-AB91-73AA9CE79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E406-22BE-4806-B681-90879E716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61AB-6E6B-4D6E-BF60-5FAE126DF5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60;&#1072;&#1081;&#1083;:Backing_sheep_at_sheepdog_competit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Impact"/>
              </a:rPr>
              <a:t>ДИКИЕ ЗВЕРИ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а 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2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ГП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60343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Unicode MS"/>
              </a:rPr>
              <a:t>Какая пословица гласит о том, что дикого зверя нельзя приручит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929"/>
                </a:solidFill>
                <a:latin typeface="Tahoma"/>
              </a:rPr>
              <a:t>«Сколько волка не корми, а он всё в лес смот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Желаю вам успехов в получе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579760" cy="3895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Возможно ли приручить дикого зверя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4546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035680" y="2060640"/>
            <a:ext cx="3289320" cy="360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Georgia"/>
              </a:rPr>
              <a:t>Назовите одомашненных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2879640" cy="25272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оба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есные хорь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ВОЯД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в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ошади, в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БЕСПОЗВОНОЧНЫ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чёл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cc"/>
                </a:solidFill>
                <a:latin typeface="Tahoma"/>
              </a:rPr>
              <a:t>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овый шелкопря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7" name="" descr="Backing sheep at sheepdog competi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145764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Знаете ли вы каких животных          нельзя приручить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Чёрный воро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Каба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de929"/>
                </a:solidFill>
                <a:latin typeface="Arial"/>
              </a:rPr>
              <a:t>Лошадь Пржевальског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016520" y="1919160"/>
            <a:ext cx="399384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х животных уже не существует в природ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блезубый тиг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мо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прачный тап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йский носо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572000" y="1771560"/>
          <a:ext cx="41911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1560"/>
                    <a:ext cx="41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Какие вы знаете изменения признаков после одомашнивания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окращение массы мозга на 20-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итупление остроты восприятия(зрение, слух, обоня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Изменение или исчезновение некоторых форм поведения( к примеру- понижение агрессив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Уменьшение зубов и р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явление разнообразных мастей и окр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Редукция волосяного покрова (свинь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Менее развитый инстинкт защиты пото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овышенная плодовит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то был предком домашней лошад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78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375120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ути одомашниван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уть привыкания животного к челове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ильствен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5796000" y="1268280"/>
          <a:ext cx="190656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68280"/>
                    <a:ext cx="19065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183672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вое, прирученное человеком животно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БАКА, предком которой был вол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5800680" y="1600200"/>
            <a:ext cx="1733760" cy="2185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5338800" y="3938760"/>
            <a:ext cx="26575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43:52Z</dcterms:created>
  <dc:creator>User</dc:creator>
  <dc:description/>
  <dc:language>en-US</dc:language>
  <cp:lastModifiedBy>07083</cp:lastModifiedBy>
  <dcterms:modified xsi:type="dcterms:W3CDTF">2009-11-05T13:14:12Z</dcterms:modified>
  <cp:revision>13</cp:revision>
  <dc:subject/>
  <dc:title>ДИКИЕ ЗВЕРИ</dc:title>
</cp:coreProperties>
</file>